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94690"/>
        <c:axId val="12030183"/>
      </c:barChart>
      <c:catAx>
        <c:axId val="22594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30183"/>
        <c:crosses val="autoZero"/>
        <c:auto val="1"/>
        <c:lblAlgn val="ctr"/>
        <c:lblOffset val="100"/>
        <c:noMultiLvlLbl val="0"/>
      </c:catAx>
      <c:valAx>
        <c:axId val="12030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94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7C4-437E-407F-9464-482E178B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5FE-1544-43FF-B3F1-3780B2A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7B0B-340E-4864-809B-63E6B349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8EE-D6A2-4A61-925D-E8AB2ADB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48E-0C4F-4ACF-84AF-45A58E1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C4F-D2C8-4D31-B5BD-EA11D97D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28F-C2F7-411A-BF1F-F6736BCF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EEC-EECD-48AF-BD4B-C0EA7E80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64B-BD89-4BA1-9DF2-DFC400EB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15A-037B-4252-B0A5-04EBFC50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282-C5EC-4A87-8177-F69B69CE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9EB-5B91-4786-A9F9-946A3595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87BBB-ABCE-4799-ADD2-ED3FBEB427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